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E7F6-ABD7-4051-82D1-015FCF57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38BB-7E3A-4922-90CB-A92F6E36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65D-4188-44AE-A86A-2BEAAE6F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4A9D-9E17-4AF0-B057-5CCEC74D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7FC5-1692-4F8F-8C7C-FE19C5E3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6489-32A5-4F26-880C-29BB52A4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9281-A587-4F72-A488-8EB8839F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A690-EC7C-4A21-B6FA-0FF0D335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FFBA-020E-4D71-AB29-60A4AFA5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E0ED-7ED0-4732-A1E3-854F5B3F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0299-8825-4D21-81F6-9178CA2B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ABA-1DB4-4E96-80E3-7B41B911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28FF-F972-4201-ACED-2D0A003830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</a:rPr>
              <a:t>ВЪЗПИТАВАЙ ДЕТЕТ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1447920" y="6248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женка Чакър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66040" y="3889440"/>
            <a:ext cx="257796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Много хора стават родители без да имат необходимата подготов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98680"/>
            <a:ext cx="1892160" cy="3559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Те не разбира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во означава да си родит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во значи въз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 се  изгражда характе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ви са принципите за правилно общува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Добре подготвените родители много рядко допускат грешки,и 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то-несъзнателн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862600" y="3444840"/>
            <a:ext cx="3281400" cy="34131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210680" y="2743200"/>
            <a:ext cx="152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НОГО РОДИТЕЛИ НАМИРАТ, ЧЕ Е ТРУДНО ДО НЕВЪЗМОЖНОСТ ДА СЕ СПРАВЯТ С ДЕТСКОТО ПОВЕД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253200" y="2743200"/>
            <a:ext cx="2890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48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ОЛЯМА ЧАСТ ОТ РОДИТЕЛИТЕ ИМАТ ТРУДНОСТ СЪС СЕБЕ С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314496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ДНЕШНИТЕ РОДИТЕЛИ СЕ НУЖДАЯТ ОТ ПРОМЕН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303720"/>
            <a:ext cx="380988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АУКИТЕ ЗА ПОВЕДЕНИЕ ПОМАГАТ  ЧРЕЗ ОСИГУРЯВАНЕ ИНФОРМАЦИЯ ОТНОСНО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999040" y="3459240"/>
            <a:ext cx="3144960" cy="33987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човешните взаимоотнош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отивацията за т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1576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ръзките между хора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ОДИТЕЛИТЕ МОГАТ ДА ПРИДОБИЯТ ДОБРИ УМЕНИЯ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 могат да разберат същността на изграждане на характе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огат да научат кои са пътищата за ефективна комуника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огат да проучат начините за успешно възпит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905120"/>
            <a:ext cx="69343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РОМЯНАТА ЗАПОЧВА </a:t>
            </a:r>
            <a:br>
              <a:rPr sz="6600"/>
            </a:b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ОТ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НА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329076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33360" y="25905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КО ИСКАТЕ ДА ПРОМЕНИТЕ  ВАШЕТО ДЕТЕ, ЗАПОЧНЕТЕ ДА ПРОМЕНЯТЕ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ЕБЕ С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261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35049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АЧИНЪТ, ПО КОЙТО РЕАГИРАТЕ НА ДЕТЕТО МОЖЕ ДА ПРОМЕНИ НЕГОВОТО ПОВЕДЕНИЕ</a:t>
            </a: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735520" y="1905120"/>
            <a:ext cx="340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488880"/>
            <a:ext cx="7315200" cy="6369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</a:rPr>
              <a:t>ЗДРАВ ЛИ Е ВАШИЯТ   </a:t>
            </a:r>
            <a:br>
              <a:rPr sz="8000"/>
            </a:br>
            <a:r>
              <a:rPr b="1" i="1" lang="en-US" sz="8000" spc="-1" strike="noStrike">
                <a:solidFill>
                  <a:srgbClr val="000000"/>
                </a:solidFill>
                <a:latin typeface="Times New Roman"/>
              </a:rPr>
              <a:t>СЕМЕЕН КРЪГ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4647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НОГО РОДИТЕЛИ СЕ СПРАВЯТ ДОБРЕ, НО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ПОЧТИ ВСИЧКИ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ДОПУСКАТ ГРЕШ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362916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ного родители се справят добре,но почти всички допускат греш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578400"/>
            <a:ext cx="3117960" cy="3279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00400" y="22860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 се обезсърчавайте от неуспехите 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стоянното чувство за вина няма да ви направи по-добри родит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чете се как да подобрявате начина си на възпит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БОГ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Е НА СТРАНАТА НА РОДИТЕЛИТ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72200" y="3639960"/>
            <a:ext cx="265104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2514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ко родителите работят с търпение и любов, със сериозно старание да помогнат на децата си  да достигнат най-  високите стандарти на чистота и скромност, те ще успеят”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Адв. дом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3711600"/>
            <a:ext cx="26146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295960" y="3009960"/>
            <a:ext cx="3848040" cy="3848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533520"/>
            <a:ext cx="8915400" cy="77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baseline="-6000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6000" spc="-1" strike="noStrike" baseline="-6000">
                <a:solidFill>
                  <a:srgbClr val="000000"/>
                </a:solidFill>
                <a:latin typeface="Times New Roman"/>
              </a:rPr>
              <a:t>Родители,работите ли с неотслабваща  енергия в полза на децата си? </a:t>
            </a:r>
            <a:r>
              <a:rPr b="1" i="1" lang="en-US" sz="6600" spc="-1" strike="noStrike" baseline="-6000">
                <a:solidFill>
                  <a:srgbClr val="000000"/>
                </a:solidFill>
                <a:latin typeface="Times New Roman"/>
              </a:rPr>
              <a:t>Бог </a:t>
            </a:r>
            <a:r>
              <a:rPr b="1" i="1" lang="en-US" sz="6000" spc="-1" strike="noStrike" baseline="-6000">
                <a:solidFill>
                  <a:srgbClr val="000000"/>
                </a:solidFill>
                <a:latin typeface="Times New Roman"/>
              </a:rPr>
              <a:t>на небето отбелязва вашата загриженост, отбелязва вашата сериозна работа,вашата непрестанна бдителност. </a:t>
            </a:r>
            <a:r>
              <a:rPr b="1" i="1" lang="en-US" sz="6600" spc="-1" strike="noStrike" baseline="-6000">
                <a:solidFill>
                  <a:srgbClr val="000000"/>
                </a:solidFill>
                <a:latin typeface="Times New Roman"/>
              </a:rPr>
              <a:t>Той чува вашите молитви.”</a:t>
            </a:r>
            <a:r>
              <a:rPr b="1" i="1" lang="en-US" sz="4800" spc="-1" strike="noStrike" baseline="-6000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i="1" lang="en-US" sz="3600" spc="-1" strike="noStrike" baseline="-6000">
                <a:solidFill>
                  <a:srgbClr val="000000"/>
                </a:solidFill>
                <a:latin typeface="Times New Roman"/>
              </a:rPr>
              <a:t>Адв.д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97180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С търпение и нежност възпитавайте децата си за Господа. Цялото небе се интересува от вашата работа… Господ ще се обедини с вас, увенчавайки усилията ви с успех.”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дв. 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3241800"/>
            <a:ext cx="291636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31237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Децата са наследство от Бога и ние сме отговорни пред Него за начина, по нойто управляваме Неговата собственост.”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дв. Дом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7000" y="2743200"/>
            <a:ext cx="3807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3360" y="3047760"/>
            <a:ext cx="7391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6000" spc="-1" strike="noStrike">
                <a:solidFill>
                  <a:srgbClr val="000000"/>
                </a:solidFill>
                <a:latin typeface="Times New Roman"/>
              </a:rPr>
              <a:t>СЕМЕЙНАТА СТРУКТУРА Е В</a:t>
            </a:r>
            <a:r>
              <a:rPr b="1" i="1" lang="bg-BG" sz="6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bg-BG" sz="6600" spc="-1" strike="noStrike">
                <a:solidFill>
                  <a:srgbClr val="000000"/>
                </a:solidFill>
                <a:latin typeface="Times New Roman"/>
              </a:rPr>
              <a:t>СЕРИОЗНА ОПАСНОС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853000" cy="25750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227640" y="757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Семейната структура е в сериозна опаснос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038480"/>
            <a:ext cx="2724120" cy="2422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3200" y="23619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spcAft>
                <a:spcPts val="4501"/>
              </a:spcAft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одителските поучения не са ефектив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spcAft>
                <a:spcPts val="4501"/>
              </a:spcAft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одителите не са добър пример за децата с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901"/>
              </a:spcBef>
              <a:spcAft>
                <a:spcPts val="4501"/>
              </a:spcAft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одителите нямат идеа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24480" y="2743200"/>
            <a:ext cx="281952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152640"/>
            <a:ext cx="8534520" cy="701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РЕМЕНАТА СЕ ПРОМЕНЯТ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НО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НУЖДАТА ОТ ЧОВЕШКИ ВЗАИМООТНОШЕНИЯ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ОСТА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ремената се променят,но нуждата от човешки взаимоотношения ост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3309840"/>
            <a:ext cx="3463920" cy="35481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12408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цата все още се нуждаят от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родите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цата все още се нуждаят от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ръковод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цата все още се нуждаят от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помо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ес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моционал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ПОЧТИ ВСЕКИ МОЖЕ ДА СТАНЕ РОДИТЕЛ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971800" y="3465360"/>
            <a:ext cx="324468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очти всеки може да стане родит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258444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14240" y="22860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А СЪЗДАВАНЕ НА ДЕЦ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НЕ Е НЕОБХОДИМО ДА СЕ ДЪРЖИ ТЕСТ, ИЛИ ДА ПРИТЕЖАВАШ ДИПЛО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00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очти всеки може да стане родит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2004840" cy="4114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24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МНОГО ХОРА СТАВАТ РОДИТЕЛИ  БЕЗ ДА ИМАТ НЕОБХОДИМАТА ПОДГОТО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3T12:06:34Z</dcterms:created>
  <dc:creator>Pacific Health</dc:creator>
  <dc:description/>
  <dc:language>en-US</dc:language>
  <cp:lastModifiedBy>Pacific Health</cp:lastModifiedBy>
  <dcterms:modified xsi:type="dcterms:W3CDTF">1998-11-06T15:14:44Z</dcterms:modified>
  <cp:revision>12</cp:revision>
  <dc:subject/>
  <dc:title>ЗДРАВ ЛИ Е ВАШИЯТ СЕМЕЕН КРЪГ ?</dc:title>
</cp:coreProperties>
</file>